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12B-7E6E-42BF-A579-8FE7B850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074-05EC-4069-B769-343546E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890-2B15-4CDD-939E-A08F26C1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79E-44BA-4822-8A75-23C9B0F6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132-C72D-4D96-84B8-586223A4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3A6-5418-43AE-89F4-E7038250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212-E45C-458B-BE03-BB704EE0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850-79D1-4563-A36C-5584D6D5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C43-7156-4361-80F2-F8B6EFE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C9C-EFD7-444B-BAE1-66AB65B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D90-9C40-44BE-9A0D-B0BE1973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06E-D1C7-4BDD-AED5-401383B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DC61-5AAD-4706-9291-920C3D38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51400">
            <a:off x="0" y="990360"/>
            <a:ext cx="54673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ff00"/>
                    </a:gs>
                    <a:gs pos="100000">
                      <a:srgbClr val="ff00ff"/>
                    </a:gs>
                  </a:gsLst>
                  <a:lin ang="9348000"/>
                </a:gradFill>
                <a:latin typeface="Candara"/>
              </a:rPr>
              <a:t>WILLI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ff00"/>
                  </a:gs>
                  <a:gs pos="100000">
                    <a:srgbClr val="ff00ff"/>
                  </a:gs>
                </a:gsLst>
                <a:lin ang="9348000"/>
              </a:gradFill>
              <a:latin typeface="Candara"/>
              <a:ea typeface="Candara"/>
            </a:endParaRPr>
          </a:p>
        </p:txBody>
      </p:sp>
      <p:sp>
        <p:nvSpPr>
          <p:cNvPr id="42" name=""/>
          <p:cNvSpPr txBox="1"/>
          <p:nvPr/>
        </p:nvSpPr>
        <p:spPr>
          <a:xfrm rot="20379000">
            <a:off x="2556000" y="4259160"/>
            <a:ext cx="647676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ff00"/>
                    </a:gs>
                    <a:gs pos="100000">
                      <a:srgbClr val="ff00ff"/>
                    </a:gs>
                  </a:gsLst>
                  <a:lin ang="9324000"/>
                </a:gradFill>
                <a:latin typeface="Candara"/>
              </a:rPr>
              <a:t>SHAKESPE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ff00"/>
                  </a:gs>
                  <a:gs pos="100000">
                    <a:srgbClr val="ff00ff"/>
                  </a:gs>
                </a:gsLst>
                <a:lin ang="9324000"/>
              </a:gradFill>
              <a:latin typeface="Candara"/>
              <a:ea typeface="Canda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319600">
            <a:off x="3047760" y="1676160"/>
            <a:ext cx="244296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2819520"/>
            <a:ext cx="2743200" cy="2819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457200"/>
            <a:ext cx="2743200" cy="2819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5400000">
            <a:off x="-2304720" y="2838240"/>
            <a:ext cx="6095880" cy="102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Rounded MT Bold"/>
              </a:rPr>
              <a:t>SONNE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6819480" y="278136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Rounded MT Bold"/>
              </a:rPr>
              <a:t>1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808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63244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8672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15400" y="20574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4197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15400" y="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66294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48769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53480" y="72388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86728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0481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6294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121932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514600"/>
            <a:ext cx="228600" cy="228600"/>
          </a:xfrm>
          <a:prstGeom prst="ellipse">
            <a:avLst/>
          </a:prstGeom>
          <a:solidFill>
            <a:srgbClr val="0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30492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5228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6294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1430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472428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34290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534520" y="6629400"/>
            <a:ext cx="228600" cy="228600"/>
          </a:xfrm>
          <a:prstGeom prst="ellipse">
            <a:avLst/>
          </a:prstGeom>
          <a:solidFill>
            <a:srgbClr val="1d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50000">
              <a:srgbClr val="000000"/>
            </a:gs>
            <a:gs pos="100000">
              <a:srgbClr val="1c1c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371600" y="152280"/>
            <a:ext cx="577224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lephant"/>
              </a:rPr>
              <a:t>TWELF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42100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828800" y="5334120"/>
            <a:ext cx="491004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lephant"/>
              </a:rPr>
              <a:t>NIGH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09680"/>
            <a:ext cx="2438280" cy="2743200"/>
          </a:xfrm>
          <a:prstGeom prst="donut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133720"/>
            <a:ext cx="2438640" cy="2743200"/>
          </a:xfrm>
          <a:prstGeom prst="donut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3048120"/>
            <a:ext cx="4257720" cy="3628440"/>
            <a:chOff x="0" y="3048120"/>
            <a:chExt cx="4257720" cy="3628440"/>
          </a:xfrm>
        </p:grpSpPr>
        <p:sp>
          <p:nvSpPr>
            <p:cNvPr id="79" name="Gear"/>
            <p:cNvSpPr/>
            <p:nvPr/>
          </p:nvSpPr>
          <p:spPr>
            <a:xfrm>
              <a:off x="2360520" y="3048120"/>
              <a:ext cx="1897200" cy="1663560"/>
            </a:xfrm>
            <a:prstGeom prst="pi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733560"/>
              <a:ext cx="2268360" cy="1989000"/>
            </a:xfrm>
            <a:prstGeom prst="pi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71320" y="4467240"/>
              <a:ext cx="2521080" cy="2209320"/>
            </a:xfrm>
            <a:prstGeom prst="pie">
              <a:avLst/>
            </a:prstGeom>
            <a:solidFill>
              <a:srgbClr val="4221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724280" y="1523880"/>
            <a:ext cx="4257720" cy="3629160"/>
            <a:chOff x="4724280" y="1523880"/>
            <a:chExt cx="4257720" cy="3629160"/>
          </a:xfrm>
        </p:grpSpPr>
        <p:sp>
          <p:nvSpPr>
            <p:cNvPr id="83" name="Gear"/>
            <p:cNvSpPr/>
            <p:nvPr/>
          </p:nvSpPr>
          <p:spPr>
            <a:xfrm>
              <a:off x="7084800" y="1523880"/>
              <a:ext cx="1897200" cy="1663920"/>
            </a:xfrm>
            <a:prstGeom prst="pie">
              <a:avLst/>
            </a:prstGeom>
            <a:solidFill>
              <a:srgbClr val="4221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209680"/>
              <a:ext cx="2268360" cy="1989360"/>
            </a:xfrm>
            <a:prstGeom prst="pie">
              <a:avLst/>
            </a:prstGeom>
            <a:solidFill>
              <a:srgbClr val="4221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95600" y="2943360"/>
              <a:ext cx="2521080" cy="2209680"/>
            </a:xfrm>
            <a:prstGeom prst="pi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romeo-and-juliet.jpg"/>
          <p:cNvPicPr/>
          <p:nvPr/>
        </p:nvPicPr>
        <p:blipFill>
          <a:blip r:embed="rId1"/>
          <a:stretch/>
        </p:blipFill>
        <p:spPr>
          <a:xfrm>
            <a:off x="2057400" y="1676520"/>
            <a:ext cx="5043600" cy="4894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14400" y="228600"/>
            <a:ext cx="7162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meo and julie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1:08:11Z</dcterms:created>
  <dc:creator>John</dc:creator>
  <dc:description/>
  <dc:language>en-US</dc:language>
  <cp:lastModifiedBy>John</cp:lastModifiedBy>
  <dcterms:modified xsi:type="dcterms:W3CDTF">2009-04-12T21:36:13Z</dcterms:modified>
  <cp:revision>5</cp:revision>
  <dc:subject/>
  <dc:title>Slide 1</dc:title>
</cp:coreProperties>
</file>